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A58E-45A1-4DDE-B806-5DAA75704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B10C-EBA1-46E2-8737-C4E082FB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D55F-5B4A-4992-8FD9-DBAD926C0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349B-E093-458E-A00F-F9A8F96BB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4F88-1C29-4AF2-A183-965757BD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0BFD-888F-4800-9386-9F4C541F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0381-72C4-446B-869E-E69EE00F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6784-FEAF-44EA-8C16-76033FE0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A2B6-50C0-4757-BA2E-A26FF6CC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ADEF-3BAD-444B-A5A0-7AE70150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53BD-6E54-4E94-A641-669EE675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C8B4-D9D4-4DC2-97F7-5A4D3860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8032-E1AC-40D4-850B-4255E44ED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freeplaymusic.com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http://web.mit.edu/invent/iow/monopoly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0800000">
            <a:off x="7313760" y="5851080"/>
            <a:ext cx="1830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mprint MT Shadow"/>
              </a:rPr>
              <a:t>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mprint MT Shadow"/>
              </a:rPr>
              <a:t>Tuesday, April 27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mprint MT Shadow"/>
              </a:rPr>
              <a:t>Period: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380880"/>
            <a:ext cx="822960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 Black"/>
              </a:rPr>
              <a:t>Monopo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9343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3520" y="6172200"/>
            <a:ext cx="5867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instriped He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5/7/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Monopoly game"/>
          <p:cNvPicPr/>
          <p:nvPr/>
        </p:nvPicPr>
        <p:blipFill>
          <a:blip r:embed="rId2"/>
          <a:stretch/>
        </p:blipFill>
        <p:spPr>
          <a:xfrm>
            <a:off x="304920" y="0"/>
            <a:ext cx="8610480" cy="3200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120" y="5867280"/>
            <a:ext cx="7696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arles Darr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y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2010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monopoly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276720"/>
            <a:ext cx="502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picture of the Monopoly symbol which is usually printed on the box of the board game. He is wearing an older tuxedo and an older top hat with a cane because this board game was made in 193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rint MT Shadow"/>
              </a:rPr>
              <a:t>Monopoly is the 1# selling board game of all ti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rint MT Shadow"/>
              </a:rPr>
              <a:t>Monopoly was created in 19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rint MT Shadow"/>
              </a:rPr>
              <a:t>It is a board game based off of taxes and bi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rint MT Shadow"/>
              </a:rPr>
              <a:t>The game pieces are modeled into the shape of common household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rint MT Shadow"/>
              </a:rPr>
              <a:t>Today, Monopoly has been played by almost half a billion people worldwid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66680" y="228600"/>
            <a:ext cx="6705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24e3e8"/>
                    </a:gs>
                    <a:gs pos="50000">
                      <a:srgbClr val="ff0000"/>
                    </a:gs>
                    <a:gs pos="100000">
                      <a:srgbClr val="24e3e8"/>
                    </a:gs>
                  </a:gsLst>
                  <a:lin ang="5400000"/>
                </a:gradFill>
                <a:latin typeface="Arial Black"/>
              </a:rPr>
              <a:t>Invention: Monopoly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24e3e8"/>
                  </a:gs>
                  <a:gs pos="50000">
                    <a:srgbClr val="ff0000"/>
                  </a:gs>
                  <a:gs pos="100000">
                    <a:srgbClr val="24e3e8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rint MT Shadow"/>
              </a:rPr>
              <a:t>Charles took the idea of Monopoly from another person, that game was called “The Landlord’s Gam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rint MT Shadow"/>
              </a:rPr>
              <a:t>Charles retired as a millionaire after creating Monop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rint MT Shadow"/>
              </a:rPr>
              <a:t>Charles ended up being partners with “Parkers Brothers” (a company) to make Monopoly a huge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rint MT Shadow"/>
              </a:rPr>
              <a:t>Charles at first sold each board game for four dollars eac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rint MT Shadow"/>
              </a:rPr>
              <a:t>Charles game (Monopoly) was so good that stores in nearby Philadelphia were demanding for copies of Monopo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43000" y="0"/>
            <a:ext cx="74674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c10ad"/>
                    </a:gs>
                  </a:gsLst>
                  <a:lin ang="5400000"/>
                </a:gradFill>
                <a:latin typeface="Arial Black"/>
              </a:rPr>
              <a:t>Inventor: Charles Darro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c10ad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3059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7:38:30Z</dcterms:created>
  <dc:creator>install</dc:creator>
  <dc:description/>
  <dc:language>en-US</dc:language>
  <cp:lastModifiedBy>install</cp:lastModifiedBy>
  <dcterms:modified xsi:type="dcterms:W3CDTF">2010-05-12T17:35:06Z</dcterms:modified>
  <cp:revision>7</cp:revision>
  <dc:subject/>
  <dc:title>Slide 1</dc:title>
</cp:coreProperties>
</file>